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947F-3B90-468D-875D-D3EF02C15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DD32-3101-4A9C-A7E3-8257BD5AC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A115-90B5-4A49-872F-273A4B13A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1D3B-CE00-46CB-9FF3-73A6C82F4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 off each number to the nearest whole number: 6.7 to 7, 4.2 to 4. Then multiply the two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9636-A9CF-4E82-83DD-6FC3A5976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EA50-896F-499D-AD14-A8F15E8D6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8D2E-3D19-48F0-89F1-04DD4CE1C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F574-2B37-45B8-9C64-00E1DC316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4F90-6356-4E3E-9551-3145275AC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BE40-533F-4CB7-BB0B-8260983D6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032E-1D32-4F4C-866F-4272BD74D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6F19-F7FB-48F4-A5B8-B2C940145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0D1C-938F-4055-8474-D3F352690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A41F-9860-42D9-B7ED-D28343635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4E29-8F8C-4A52-AF32-84FA976F0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D828-109D-4A9F-858C-653DB044C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4742-B750-4ECF-B66D-9A8F4A5BE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D389-57F3-4436-848A-3724DE26A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8996-8907-4C52-A646-51AFF2AD5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656E-F172-48F3-B585-95B14131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A4B8-1770-44D4-AE91-4CA1ABC7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651-52BE-4792-8AB7-F204EB3F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65EC-721E-4715-B907-F6F30E26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5587-9240-4D76-9AA0-E5EF7317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1BCC-0D50-4F6A-8AA5-71FC9549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27D-CCFC-49F3-8CFD-666E52E7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A4B-7FCB-442B-AC2C-85803DC2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AC4-69F9-41D6-808C-8EB2BF7C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47C-8A3F-4A98-ACA8-F05D4416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650-F4B2-48C9-85E6-A084DA3D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E17A-624E-423C-A3F7-A769A2AE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48F2-1268-4F5B-BA4A-2BDB658AC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http://rds.yahoo.com/_ylt=A0WTb_hocvBHsVMBPpejzbkF/SIG=126bgqhnu/EXP=1207026664/**http%3A/www.frightcatalog.com/i/360x360/1014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acu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gles does the triangle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number22baseline"/>
          <p:cNvPicPr/>
          <p:nvPr/>
        </p:nvPicPr>
        <p:blipFill>
          <a:blip r:embed="rId1"/>
          <a:stretch/>
        </p:blipFill>
        <p:spPr>
          <a:xfrm>
            <a:off x="838080" y="1828800"/>
            <a:ext cx="2419560" cy="3476520"/>
          </a:xfrm>
          <a:prstGeom prst="rect">
            <a:avLst/>
          </a:prstGeom>
          <a:ln w="0">
            <a:noFill/>
          </a:ln>
        </p:spPr>
      </p:pic>
      <p:sp>
        <p:nvSpPr>
          <p:cNvPr id="133" name="WordArt 4"/>
          <p:cNvSpPr txBox="1"/>
          <p:nvPr/>
        </p:nvSpPr>
        <p:spPr>
          <a:xfrm>
            <a:off x="4876920" y="198108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ere's what we said!</a:t>
            </a:r>
            <a:endParaRPr b="0" lang="en-US" sz="1200" spc="1" strike="noStrike">
              <a:ln w="2232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5181480" y="25146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5181480" y="2971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181480" y="3429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181480" y="39625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9"/>
          <p:cNvSpPr txBox="1"/>
          <p:nvPr/>
        </p:nvSpPr>
        <p:spPr>
          <a:xfrm>
            <a:off x="380880" y="5638680"/>
            <a:ext cx="3124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cute angle -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39" name="WordArt 10"/>
          <p:cNvSpPr txBox="1"/>
          <p:nvPr/>
        </p:nvSpPr>
        <p:spPr>
          <a:xfrm>
            <a:off x="3581280" y="5410080"/>
            <a:ext cx="5181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n angle with a measure between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0 degrees and 90 degrees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40" name="AutoShape 11"/>
          <p:cNvSpPr/>
          <p:nvPr/>
        </p:nvSpPr>
        <p:spPr>
          <a:xfrm rot="821400">
            <a:off x="533160" y="21337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12"/>
          <p:cNvSpPr txBox="1"/>
          <p:nvPr/>
        </p:nvSpPr>
        <p:spPr>
          <a:xfrm rot="534600">
            <a:off x="151920" y="2971800"/>
            <a:ext cx="129060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cute</a:t>
            </a:r>
            <a:endParaRPr b="0" lang="en-US" sz="1200" spc="1" strike="noStrike">
              <a:ln w="316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2" name="AutoShape 13"/>
          <p:cNvSpPr/>
          <p:nvPr/>
        </p:nvSpPr>
        <p:spPr>
          <a:xfrm rot="5173800">
            <a:off x="2286000" y="457200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14"/>
          <p:cNvSpPr txBox="1"/>
          <p:nvPr/>
        </p:nvSpPr>
        <p:spPr>
          <a:xfrm rot="21361200">
            <a:off x="685440" y="4800600"/>
            <a:ext cx="129060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cute</a:t>
            </a:r>
            <a:endParaRPr b="0" lang="en-US" sz="1200" spc="1" strike="noStrike">
              <a:ln w="316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4" name="AutoShape 15"/>
          <p:cNvSpPr/>
          <p:nvPr/>
        </p:nvSpPr>
        <p:spPr>
          <a:xfrm rot="18512400">
            <a:off x="2895480" y="2133360"/>
            <a:ext cx="457200" cy="762120"/>
          </a:xfrm>
          <a:prstGeom prst="upArrow">
            <a:avLst>
              <a:gd name="adj1" fmla="val 50000"/>
              <a:gd name="adj2" fmla="val 416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16"/>
          <p:cNvSpPr txBox="1"/>
          <p:nvPr/>
        </p:nvSpPr>
        <p:spPr>
          <a:xfrm>
            <a:off x="2971800" y="3048120"/>
            <a:ext cx="1290600" cy="42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obtuse</a:t>
            </a:r>
            <a:endParaRPr b="0" lang="en-US" sz="1200" spc="1" strike="noStrike">
              <a:ln w="3168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3048120" y="3505320"/>
            <a:ext cx="1752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gle E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gle F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228600" y="3505320"/>
            <a:ext cx="1752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gle E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gle 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57200" y="761400"/>
            <a:ext cx="156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 estimate i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ose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.7 × 4.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371600" y="1684080"/>
            <a:ext cx="129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206520" y="1684080"/>
            <a:ext cx="111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4502880" y="1684080"/>
            <a:ext cx="136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095880" y="1684080"/>
            <a:ext cx="141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095880" y="3581280"/>
            <a:ext cx="1552680" cy="1447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04920" y="5118120"/>
            <a:ext cx="8245440" cy="17398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und off each number to the nearest whole number. Then multiply the two numb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Rectangle 10" descr=""/>
          <p:cNvPicPr/>
          <p:nvPr/>
        </p:nvPicPr>
        <p:blipFill>
          <a:blip r:embed="rId1"/>
          <a:stretch/>
        </p:blipFill>
        <p:spPr>
          <a:xfrm>
            <a:off x="6267600" y="-219240"/>
            <a:ext cx="2979720" cy="11462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6095880" y="1684080"/>
            <a:ext cx="141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838080" y="13716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962520" y="13716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590920" y="4038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486400" y="43434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4876920" y="198108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ere's what we said!</a:t>
            </a:r>
            <a:endParaRPr b="0" lang="en-US" sz="1200" spc="1" strike="noStrike">
              <a:ln w="2232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876920" y="25146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Diame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952880" y="2895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students said: Ch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029200" y="3352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 students said: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5029200" y="3809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 students sai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rcum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380880" y="1404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the labeled part of the circle at the r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609480" y="2057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60948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609480" y="3048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609480" y="3581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ircum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4"/>
          <p:cNvSpPr/>
          <p:nvPr/>
        </p:nvSpPr>
        <p:spPr>
          <a:xfrm>
            <a:off x="3200400" y="4572000"/>
            <a:ext cx="1981080" cy="182880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5"/>
          <p:cNvSpPr/>
          <p:nvPr/>
        </p:nvSpPr>
        <p:spPr>
          <a:xfrm>
            <a:off x="3276720" y="5715000"/>
            <a:ext cx="1752480" cy="15228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value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the equation below?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276720" y="9907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t 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09480" y="3048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0948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609480" y="2057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,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609480" y="3581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10"/>
          <p:cNvSpPr txBox="1"/>
          <p:nvPr/>
        </p:nvSpPr>
        <p:spPr>
          <a:xfrm>
            <a:off x="4876920" y="198108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ere's what we said!</a:t>
            </a:r>
            <a:endParaRPr b="0" lang="en-US" sz="1200" spc="1" strike="noStrike">
              <a:ln w="2232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5105520" y="3809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s said: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5029200" y="3352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s said: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5029200" y="2895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s said: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5029200" y="2514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s said: 2,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Straight Arrow Connector 15"/>
          <p:cNvCxnSpPr>
            <a:stCxn id="185" idx="0"/>
          </p:cNvCxnSpPr>
          <p:nvPr/>
        </p:nvCxnSpPr>
        <p:spPr>
          <a:xfrm flipH="1" flipV="1">
            <a:off x="4344480" y="1599840"/>
            <a:ext cx="37440" cy="3277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5" name="Rectangle 16"/>
          <p:cNvSpPr/>
          <p:nvPr/>
        </p:nvSpPr>
        <p:spPr>
          <a:xfrm>
            <a:off x="2286000" y="4876920"/>
            <a:ext cx="4191120" cy="1218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en the variable is next to the number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you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 MULTIPL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two of th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= 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n what is the value o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(10 –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2901960" y="1401840"/>
            <a:ext cx="3876840" cy="11523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609480" y="2057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60948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60948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60948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5105520" y="41911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5105520" y="4648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5105520" y="51055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5105520" y="5638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tudent rea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12 words in 4 minut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 How man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ords per minu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d he r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609480" y="2057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60948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609480" y="3048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609480" y="3505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5105520" y="41911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5105520" y="5638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2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5105520" y="51055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5105520" y="4648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2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http://www.extremefunnyhumor.com/pics/double_school_bus.jpg"/>
          <p:cNvPicPr/>
          <p:nvPr/>
        </p:nvPicPr>
        <p:blipFill>
          <a:blip r:embed="rId1"/>
          <a:srcRect l="0" t="3269" r="0" b="0"/>
          <a:stretch/>
        </p:blipFill>
        <p:spPr>
          <a:xfrm>
            <a:off x="457200" y="3425760"/>
            <a:ext cx="4267080" cy="34322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mal went on a bus trip tha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 a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:46 a.m.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 at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:12 p.m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long was the tr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5257800" y="5257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5257800" y="43434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5257800" y="4800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5257800" y="57150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57200" y="3886200"/>
            <a:ext cx="4343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4 hours and 34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457200" y="4648320"/>
            <a:ext cx="426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3 hours and 34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457200" y="5486400"/>
            <a:ext cx="426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4 hours and 26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457200" y="6248520"/>
            <a:ext cx="426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3 hours and 26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list shows temperatures above and below freezing in order from the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we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emperature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ghe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715000" y="45720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5715000" y="5029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5715000" y="54864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5715000" y="5943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http://www.kidsgeo.com/images/freezing-rain.jpg"/>
          <p:cNvPicPr/>
          <p:nvPr/>
        </p:nvPicPr>
        <p:blipFill>
          <a:blip r:embed="rId1"/>
          <a:stretch/>
        </p:blipFill>
        <p:spPr>
          <a:xfrm>
            <a:off x="0" y="2895480"/>
            <a:ext cx="5410080" cy="39625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0" y="3200400"/>
            <a:ext cx="541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.)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109°F, 107°F, -66°F, -68°F, -105°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0" y="4191120"/>
            <a:ext cx="541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.)      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-105°F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-68°F, -66°F, 107°F, 109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0" y="5105520"/>
            <a:ext cx="541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.)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109°F, 107°F, -105°F, -68°F, -66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0" y="6019920"/>
            <a:ext cx="541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.)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-105°F, 107°F, 109°F, -66°F, -68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e Hope That You Had Fun!</a:t>
            </a:r>
            <a:br>
              <a:rPr sz="4400"/>
            </a:b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Good Luck on the P.S.S.A.’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itle 1"/>
          <p:cNvSpPr/>
          <p:nvPr/>
        </p:nvSpPr>
        <p:spPr>
          <a:xfrm>
            <a:off x="2057400" y="1905120"/>
            <a:ext cx="78487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ry your best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Remember, this is our  SUPERBOW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http://www.irregulartimes.com/superbowl.jpg"/>
          <p:cNvPicPr/>
          <p:nvPr/>
        </p:nvPicPr>
        <p:blipFill>
          <a:blip r:embed="rId1"/>
          <a:stretch/>
        </p:blipFill>
        <p:spPr>
          <a:xfrm>
            <a:off x="0" y="3962520"/>
            <a:ext cx="3057480" cy="2895480"/>
          </a:xfrm>
          <a:prstGeom prst="rect">
            <a:avLst/>
          </a:prstGeom>
          <a:ln w="0">
            <a:noFill/>
          </a:ln>
        </p:spPr>
      </p:pic>
      <p:pic>
        <p:nvPicPr>
          <p:cNvPr id="228" name="Rectangle 4" descr=""/>
          <p:cNvPicPr/>
          <p:nvPr/>
        </p:nvPicPr>
        <p:blipFill>
          <a:blip r:embed="rId2"/>
          <a:stretch/>
        </p:blipFill>
        <p:spPr>
          <a:xfrm>
            <a:off x="3255840" y="4748040"/>
            <a:ext cx="1444680" cy="1189080"/>
          </a:xfrm>
          <a:prstGeom prst="rect">
            <a:avLst/>
          </a:prstGeom>
          <a:ln w="0">
            <a:noFill/>
          </a:ln>
        </p:spPr>
      </p:pic>
      <p:pic>
        <p:nvPicPr>
          <p:cNvPr id="229" name="Rectangle 5" descr=""/>
          <p:cNvPicPr/>
          <p:nvPr/>
        </p:nvPicPr>
        <p:blipFill>
          <a:blip r:embed="rId3"/>
          <a:stretch/>
        </p:blipFill>
        <p:spPr>
          <a:xfrm>
            <a:off x="3790800" y="4668840"/>
            <a:ext cx="1446480" cy="1195560"/>
          </a:xfrm>
          <a:prstGeom prst="rect">
            <a:avLst/>
          </a:prstGeom>
          <a:ln w="0">
            <a:noFill/>
          </a:ln>
        </p:spPr>
      </p:pic>
      <p:pic>
        <p:nvPicPr>
          <p:cNvPr id="230" name="Rectangle 6" descr=""/>
          <p:cNvPicPr/>
          <p:nvPr/>
        </p:nvPicPr>
        <p:blipFill>
          <a:blip r:embed="rId4"/>
          <a:stretch/>
        </p:blipFill>
        <p:spPr>
          <a:xfrm>
            <a:off x="4400640" y="4668840"/>
            <a:ext cx="1446120" cy="1195560"/>
          </a:xfrm>
          <a:prstGeom prst="rect">
            <a:avLst/>
          </a:prstGeom>
          <a:ln w="0">
            <a:noFill/>
          </a:ln>
        </p:spPr>
      </p:pic>
      <p:pic>
        <p:nvPicPr>
          <p:cNvPr id="231" name="Rectangle 7" descr=""/>
          <p:cNvPicPr/>
          <p:nvPr/>
        </p:nvPicPr>
        <p:blipFill>
          <a:blip r:embed="rId5"/>
          <a:stretch/>
        </p:blipFill>
        <p:spPr>
          <a:xfrm>
            <a:off x="5175360" y="5126040"/>
            <a:ext cx="14572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Welcome to Mr. Brennan’s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ltimate PSSA Challeng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M:\East Pic Word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:\primarydoors.jpg"/>
          <p:cNvPicPr/>
          <p:nvPr/>
        </p:nvPicPr>
        <p:blipFill>
          <a:blip r:embed="rId1"/>
          <a:stretch/>
        </p:blipFill>
        <p:spPr>
          <a:xfrm>
            <a:off x="0" y="1260360"/>
            <a:ext cx="9144000" cy="5597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gradFill rotWithShape="0">
            <a:gsLst>
              <a:gs pos="0">
                <a:srgbClr val="698285"/>
              </a:gs>
              <a:gs pos="100000">
                <a:srgbClr val="b7e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I know that your teachers have been flooding you with preparation latel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L:\Front River copy.jpg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L:\bottomwing.jpg"/>
          <p:cNvPicPr/>
          <p:nvPr/>
        </p:nvPicPr>
        <p:blipFill>
          <a:blip r:embed="rId3"/>
          <a:stretch/>
        </p:blipFill>
        <p:spPr>
          <a:xfrm>
            <a:off x="0" y="1523880"/>
            <a:ext cx="9144000" cy="5315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L:\Cars river copy.jpg"/>
          <p:cNvPicPr/>
          <p:nvPr/>
        </p:nvPicPr>
        <p:blipFill>
          <a:blip r:embed="rId4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So this should have been a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LAM DUNK </a:t>
            </a: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for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:\Users\userpc\Desktop\School Stuff - PAUL\Darrell2 copy.jpg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radi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the circ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Diameterof8Inches_2e"/>
          <p:cNvPicPr/>
          <p:nvPr/>
        </p:nvPicPr>
        <p:blipFill>
          <a:blip r:embed="rId1"/>
          <a:stretch/>
        </p:blipFill>
        <p:spPr>
          <a:xfrm>
            <a:off x="762120" y="1981080"/>
            <a:ext cx="3895560" cy="3454560"/>
          </a:xfrm>
          <a:prstGeom prst="rect">
            <a:avLst/>
          </a:prstGeom>
          <a:ln w="0">
            <a:noFill/>
          </a:ln>
        </p:spPr>
      </p:pic>
      <p:sp>
        <p:nvSpPr>
          <p:cNvPr id="60" name="WordArt 4"/>
          <p:cNvSpPr txBox="1"/>
          <p:nvPr/>
        </p:nvSpPr>
        <p:spPr>
          <a:xfrm>
            <a:off x="1295280" y="3581280"/>
            <a:ext cx="2895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Diameter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5029200" y="1828800"/>
            <a:ext cx="3352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ere's what we said!</a:t>
            </a:r>
            <a:endParaRPr b="0" lang="en-US" sz="1200" spc="1" strike="noStrike">
              <a:ln w="2232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029200" y="24382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029200" y="28954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029200" y="33526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14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5029200" y="3809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0"/>
          <p:cNvSpPr txBox="1"/>
          <p:nvPr/>
        </p:nvSpPr>
        <p:spPr>
          <a:xfrm>
            <a:off x="1295280" y="3048120"/>
            <a:ext cx="1447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adius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7" name="WordArt 11"/>
          <p:cNvSpPr txBox="1"/>
          <p:nvPr/>
        </p:nvSpPr>
        <p:spPr>
          <a:xfrm>
            <a:off x="304920" y="5715000"/>
            <a:ext cx="1676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adius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8" name="WordArt 12"/>
          <p:cNvSpPr txBox="1"/>
          <p:nvPr/>
        </p:nvSpPr>
        <p:spPr>
          <a:xfrm>
            <a:off x="2286000" y="5867280"/>
            <a:ext cx="6248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s half of the Diameter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hypotenu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right triangle XY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HypotenuseXYZ_2e"/>
          <p:cNvPicPr/>
          <p:nvPr/>
        </p:nvPicPr>
        <p:blipFill>
          <a:blip r:embed="rId1"/>
          <a:stretch/>
        </p:blipFill>
        <p:spPr>
          <a:xfrm>
            <a:off x="4191120" y="1752480"/>
            <a:ext cx="4572000" cy="3537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4"/>
          <p:cNvSpPr txBox="1"/>
          <p:nvPr/>
        </p:nvSpPr>
        <p:spPr>
          <a:xfrm rot="19485000">
            <a:off x="3962160" y="3047760"/>
            <a:ext cx="4719600" cy="48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ypotenus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380880" y="1828800"/>
            <a:ext cx="3353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ere's what we said!</a:t>
            </a:r>
            <a:endParaRPr b="0" lang="en-US" sz="1200" spc="1" strike="noStrike">
              <a:ln w="2232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04920" y="2286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gle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04920" y="28195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gle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04920" y="33526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de 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04920" y="38862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de X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0"/>
          <p:cNvSpPr txBox="1"/>
          <p:nvPr/>
        </p:nvSpPr>
        <p:spPr>
          <a:xfrm>
            <a:off x="228600" y="510552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ypotenuse -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8" name="WordArt 11"/>
          <p:cNvSpPr txBox="1"/>
          <p:nvPr/>
        </p:nvSpPr>
        <p:spPr>
          <a:xfrm>
            <a:off x="228600" y="57913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side of a right triangle opposite the right angle.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hich day was there the greates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f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amounts of time Yao and Lu spent on their home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number19baseline"/>
          <p:cNvPicPr/>
          <p:nvPr/>
        </p:nvPicPr>
        <p:blipFill>
          <a:blip r:embed="rId1"/>
          <a:stretch/>
        </p:blipFill>
        <p:spPr>
          <a:xfrm>
            <a:off x="0" y="1676520"/>
            <a:ext cx="5257800" cy="403848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5410080" y="1981080"/>
            <a:ext cx="3353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ere's what we said!</a:t>
            </a:r>
            <a:endParaRPr b="0" lang="en-US" sz="1200" spc="1" strike="noStrike">
              <a:ln w="2232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181480" y="25146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n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181480" y="2971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students said: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u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181480" y="34290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students said: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ur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181480" y="3809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students said: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9"/>
          <p:cNvSpPr txBox="1"/>
          <p:nvPr/>
        </p:nvSpPr>
        <p:spPr>
          <a:xfrm>
            <a:off x="380880" y="5638680"/>
            <a:ext cx="3124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difference =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7" name="WordArt 10"/>
          <p:cNvSpPr txBox="1"/>
          <p:nvPr/>
        </p:nvSpPr>
        <p:spPr>
          <a:xfrm>
            <a:off x="3581280" y="5410080"/>
            <a:ext cx="5181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amount by which one quantity is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greater or less than another.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8" name="AutoShape 11"/>
          <p:cNvSpPr/>
          <p:nvPr/>
        </p:nvSpPr>
        <p:spPr>
          <a:xfrm>
            <a:off x="2819520" y="2590920"/>
            <a:ext cx="380880" cy="761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12"/>
          <p:cNvSpPr txBox="1"/>
          <p:nvPr/>
        </p:nvSpPr>
        <p:spPr>
          <a:xfrm>
            <a:off x="2514600" y="2286000"/>
            <a:ext cx="1066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Even</a:t>
            </a:r>
            <a:endParaRPr b="0" lang="en-US" sz="12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2590920" y="3657600"/>
            <a:ext cx="685800" cy="76212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H="1">
            <a:off x="2743200" y="3657600"/>
            <a:ext cx="457200" cy="83808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5"/>
          <p:cNvSpPr txBox="1"/>
          <p:nvPr/>
        </p:nvSpPr>
        <p:spPr>
          <a:xfrm>
            <a:off x="1143000" y="2819520"/>
            <a:ext cx="304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</a:t>
            </a:r>
            <a:endParaRPr b="0" lang="en-US" sz="12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3" name="WordArt 16"/>
          <p:cNvSpPr txBox="1"/>
          <p:nvPr/>
        </p:nvSpPr>
        <p:spPr>
          <a:xfrm>
            <a:off x="1752480" y="3657600"/>
            <a:ext cx="381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0.5</a:t>
            </a:r>
            <a:endParaRPr b="0" lang="en-US" sz="12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4" name="WordArt 17"/>
          <p:cNvSpPr txBox="1"/>
          <p:nvPr/>
        </p:nvSpPr>
        <p:spPr>
          <a:xfrm>
            <a:off x="3657600" y="3429000"/>
            <a:ext cx="380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0.5</a:t>
            </a:r>
            <a:endParaRPr b="0" lang="en-US" sz="12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5" name="WordArt 18"/>
          <p:cNvSpPr txBox="1"/>
          <p:nvPr/>
        </p:nvSpPr>
        <p:spPr>
          <a:xfrm>
            <a:off x="4648320" y="4191120"/>
            <a:ext cx="380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0.5</a:t>
            </a:r>
            <a:endParaRPr b="0" lang="en-US" sz="12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6" name="Freeform 19"/>
          <p:cNvSpPr/>
          <p:nvPr/>
        </p:nvSpPr>
        <p:spPr>
          <a:xfrm>
            <a:off x="622440" y="4724280"/>
            <a:ext cx="1155600" cy="86364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728" h="544">
                <a:moveTo>
                  <a:pt x="376" y="48"/>
                </a:moveTo>
                <a:cubicBezTo>
                  <a:pt x="228" y="64"/>
                  <a:pt x="80" y="80"/>
                  <a:pt x="40" y="144"/>
                </a:cubicBezTo>
                <a:cubicBezTo>
                  <a:pt x="0" y="208"/>
                  <a:pt x="56" y="368"/>
                  <a:pt x="136" y="432"/>
                </a:cubicBezTo>
                <a:cubicBezTo>
                  <a:pt x="216" y="496"/>
                  <a:pt x="424" y="544"/>
                  <a:pt x="520" y="528"/>
                </a:cubicBezTo>
                <a:cubicBezTo>
                  <a:pt x="616" y="512"/>
                  <a:pt x="696" y="416"/>
                  <a:pt x="712" y="336"/>
                </a:cubicBezTo>
                <a:cubicBezTo>
                  <a:pt x="728" y="256"/>
                  <a:pt x="704" y="96"/>
                  <a:pt x="616" y="48"/>
                </a:cubicBezTo>
                <a:cubicBezTo>
                  <a:pt x="528" y="0"/>
                  <a:pt x="264" y="48"/>
                  <a:pt x="184" y="48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measurement of angle V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number15baseline"/>
          <p:cNvPicPr/>
          <p:nvPr/>
        </p:nvPicPr>
        <p:blipFill>
          <a:blip r:embed="rId1"/>
          <a:stretch/>
        </p:blipFill>
        <p:spPr>
          <a:xfrm>
            <a:off x="304920" y="1143000"/>
            <a:ext cx="5257800" cy="4800600"/>
          </a:xfrm>
          <a:prstGeom prst="rect">
            <a:avLst/>
          </a:prstGeom>
          <a:ln w="0">
            <a:noFill/>
          </a:ln>
        </p:spPr>
      </p:pic>
      <p:sp>
        <p:nvSpPr>
          <p:cNvPr id="99" name="WordArt 4"/>
          <p:cNvSpPr txBox="1"/>
          <p:nvPr/>
        </p:nvSpPr>
        <p:spPr>
          <a:xfrm>
            <a:off x="4876920" y="198108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ere's what we said!</a:t>
            </a:r>
            <a:endParaRPr b="0" lang="en-US" sz="1200" spc="1" strike="noStrike">
              <a:ln w="2232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181480" y="25146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105520" y="2971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181480" y="3429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1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5181480" y="38862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2514600" y="5334120"/>
            <a:ext cx="228600" cy="3045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1905120" y="1905120"/>
            <a:ext cx="685800" cy="3429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2743200" y="5486400"/>
            <a:ext cx="2514600" cy="0"/>
          </a:xfrm>
          <a:prstGeom prst="line">
            <a:avLst/>
          </a:prstGeom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2"/>
          <p:cNvSpPr txBox="1"/>
          <p:nvPr/>
        </p:nvSpPr>
        <p:spPr>
          <a:xfrm>
            <a:off x="762120" y="60199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ertex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8" name="Line 13"/>
          <p:cNvSpPr/>
          <p:nvPr/>
        </p:nvSpPr>
        <p:spPr>
          <a:xfrm flipV="1">
            <a:off x="1523880" y="5562720"/>
            <a:ext cx="91440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 flipV="1">
            <a:off x="4191120" y="5638680"/>
            <a:ext cx="0" cy="99072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15"/>
          <p:cNvSpPr txBox="1"/>
          <p:nvPr/>
        </p:nvSpPr>
        <p:spPr>
          <a:xfrm rot="2736600">
            <a:off x="2179800" y="3597840"/>
            <a:ext cx="2766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btuse angle</a:t>
            </a:r>
            <a:endParaRPr b="0" lang="en-US" sz="1200" spc="1" strike="noStrike">
              <a:ln w="316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4952880" y="3581280"/>
            <a:ext cx="3657600" cy="76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7"/>
          <p:cNvSpPr/>
          <p:nvPr/>
        </p:nvSpPr>
        <p:spPr>
          <a:xfrm>
            <a:off x="4952880" y="4038480"/>
            <a:ext cx="3657600" cy="76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5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 is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least commo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multipl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LCM) of 9 and 12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3"/>
          <p:cNvSpPr txBox="1"/>
          <p:nvPr/>
        </p:nvSpPr>
        <p:spPr>
          <a:xfrm>
            <a:off x="4876920" y="198108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ere's what we said!</a:t>
            </a:r>
            <a:endParaRPr b="0" lang="en-US" sz="1200" spc="1" strike="noStrike">
              <a:ln w="2232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257800" y="25146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257800" y="30481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257800" y="35812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5257800" y="4114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09480" y="21337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094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609480" y="3352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609480" y="3886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12"/>
          <p:cNvSpPr txBox="1"/>
          <p:nvPr/>
        </p:nvSpPr>
        <p:spPr>
          <a:xfrm>
            <a:off x="228600" y="5638680"/>
            <a:ext cx="3429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ast common multiple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24" name="WordArt 13"/>
          <p:cNvSpPr txBox="1"/>
          <p:nvPr/>
        </p:nvSpPr>
        <p:spPr>
          <a:xfrm>
            <a:off x="3581280" y="4800600"/>
            <a:ext cx="51818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smallest quantity that is divisible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by 2 or more given quantities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with out a remainder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25" name="Picture 14" descr="lcm"/>
          <p:cNvPicPr/>
          <p:nvPr/>
        </p:nvPicPr>
        <p:blipFill>
          <a:blip r:embed="rId1"/>
          <a:stretch/>
        </p:blipFill>
        <p:spPr>
          <a:xfrm>
            <a:off x="-1219320" y="1143000"/>
            <a:ext cx="11430000" cy="5029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5"/>
          <p:cNvSpPr/>
          <p:nvPr/>
        </p:nvSpPr>
        <p:spPr>
          <a:xfrm>
            <a:off x="304920" y="5867280"/>
            <a:ext cx="853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152280" y="5867280"/>
            <a:ext cx="8915400" cy="8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s you can see on this number line, the first time the multiples match up is 1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swer: 15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17"/>
          <p:cNvSpPr txBox="1"/>
          <p:nvPr/>
        </p:nvSpPr>
        <p:spPr>
          <a:xfrm>
            <a:off x="1905120" y="4724280"/>
            <a:ext cx="3886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9, 18, 27, 36, 45, 54</a:t>
            </a:r>
            <a:endParaRPr b="0" lang="en-US" sz="12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9" name="WordArt 18"/>
          <p:cNvSpPr txBox="1"/>
          <p:nvPr/>
        </p:nvSpPr>
        <p:spPr>
          <a:xfrm>
            <a:off x="1905120" y="5638680"/>
            <a:ext cx="3886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2, 24, 36, 48, 60, 72</a:t>
            </a:r>
            <a:endParaRPr b="0" lang="en-US" sz="12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30" name="Freeform 19"/>
          <p:cNvSpPr/>
          <p:nvPr/>
        </p:nvSpPr>
        <p:spPr>
          <a:xfrm>
            <a:off x="2971800" y="4572000"/>
            <a:ext cx="1521000" cy="1668600"/>
          </a:xfrm>
          <a:custGeom>
            <a:avLst/>
            <a:gdLst>
              <a:gd name="textAreaLeft" fmla="*/ 0 w 1521000"/>
              <a:gd name="textAreaRight" fmla="*/ 1521360 w 1521000"/>
              <a:gd name="textAreaTop" fmla="*/ 0 h 1668600"/>
              <a:gd name="textAreaBottom" fmla="*/ 1668960 h 1668600"/>
            </a:gdLst>
            <a:ahLst/>
            <a:rect l="textAreaLeft" t="textAreaTop" r="textAreaRight" b="textAreaBottom"/>
            <a:pathLst>
              <a:path w="958" h="1051">
                <a:moveTo>
                  <a:pt x="596" y="68"/>
                </a:moveTo>
                <a:cubicBezTo>
                  <a:pt x="546" y="75"/>
                  <a:pt x="499" y="84"/>
                  <a:pt x="450" y="97"/>
                </a:cubicBezTo>
                <a:cubicBezTo>
                  <a:pt x="443" y="107"/>
                  <a:pt x="431" y="115"/>
                  <a:pt x="430" y="127"/>
                </a:cubicBezTo>
                <a:cubicBezTo>
                  <a:pt x="398" y="674"/>
                  <a:pt x="588" y="588"/>
                  <a:pt x="186" y="605"/>
                </a:cubicBezTo>
                <a:cubicBezTo>
                  <a:pt x="160" y="608"/>
                  <a:pt x="132" y="605"/>
                  <a:pt x="108" y="615"/>
                </a:cubicBezTo>
                <a:cubicBezTo>
                  <a:pt x="97" y="619"/>
                  <a:pt x="96" y="635"/>
                  <a:pt x="89" y="644"/>
                </a:cubicBezTo>
                <a:cubicBezTo>
                  <a:pt x="46" y="695"/>
                  <a:pt x="31" y="726"/>
                  <a:pt x="11" y="790"/>
                </a:cubicBezTo>
                <a:cubicBezTo>
                  <a:pt x="17" y="883"/>
                  <a:pt x="0" y="953"/>
                  <a:pt x="79" y="1005"/>
                </a:cubicBezTo>
                <a:cubicBezTo>
                  <a:pt x="242" y="1002"/>
                  <a:pt x="414" y="1051"/>
                  <a:pt x="567" y="995"/>
                </a:cubicBezTo>
                <a:cubicBezTo>
                  <a:pt x="619" y="976"/>
                  <a:pt x="557" y="884"/>
                  <a:pt x="557" y="829"/>
                </a:cubicBezTo>
                <a:cubicBezTo>
                  <a:pt x="557" y="601"/>
                  <a:pt x="507" y="646"/>
                  <a:pt x="596" y="585"/>
                </a:cubicBezTo>
                <a:cubicBezTo>
                  <a:pt x="630" y="488"/>
                  <a:pt x="846" y="539"/>
                  <a:pt x="889" y="537"/>
                </a:cubicBezTo>
                <a:cubicBezTo>
                  <a:pt x="958" y="491"/>
                  <a:pt x="940" y="466"/>
                  <a:pt x="948" y="371"/>
                </a:cubicBezTo>
                <a:cubicBezTo>
                  <a:pt x="945" y="309"/>
                  <a:pt x="946" y="247"/>
                  <a:pt x="938" y="185"/>
                </a:cubicBezTo>
                <a:cubicBezTo>
                  <a:pt x="935" y="160"/>
                  <a:pt x="844" y="116"/>
                  <a:pt x="831" y="107"/>
                </a:cubicBezTo>
                <a:cubicBezTo>
                  <a:pt x="775" y="69"/>
                  <a:pt x="708" y="60"/>
                  <a:pt x="645" y="39"/>
                </a:cubicBezTo>
                <a:cubicBezTo>
                  <a:pt x="609" y="27"/>
                  <a:pt x="558" y="0"/>
                  <a:pt x="518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7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5:11:14Z</dcterms:created>
  <dc:creator>pbrennan</dc:creator>
  <dc:description/>
  <dc:language>en-US</dc:language>
  <cp:lastModifiedBy>LK</cp:lastModifiedBy>
  <dcterms:modified xsi:type="dcterms:W3CDTF">2011-02-24T13:19:19Z</dcterms:modified>
  <cp:revision>14</cp:revision>
  <dc:subject/>
  <dc:title>Slide 1</dc:title>
</cp:coreProperties>
</file>